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A8C-C7E6-4FE0-9EAF-045E63DC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FB1-A87D-4D42-8485-1390D593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659-8911-43F3-A731-DEF3E64B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015-D5BF-434A-BCBC-5C8EBD85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FDF-97CD-4AFC-8E76-E2322BD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4A4-F087-41A3-9743-8B8D059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905-0D7B-4884-82F8-873D2903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50E-B6E7-4590-807B-0B1D64EC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1E0-1ABE-45F7-8B70-90F60850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65D-6AEC-4BF5-AD5E-648889E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233-3F2C-4F96-B8C5-E6209B6F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286-B8F2-4253-93B6-EA0A7BA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40F8-4DD9-4B3B-B011-BE9C3F9ACF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38088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做一个会节约的高中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由勤俭破由奢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俭入奢易，从奢入俭难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有钱时摆阔，没钱挨饿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欲求温饱，勤俭为要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紧紧手，年年有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勤能补拙，省能补贫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思前顾后，吃穿常有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精打细算，油盐不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你还记得吗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每天在你进出食堂的时候，你是否留意挂在墙上的标语…是因为你不知道…还是你已经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麻痹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了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635200"/>
            <a:ext cx="9144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在日常生活中，随处可以见到浪费粮食的现象。也许你并未意识到 自己在浪费，也许你认为浪费这一点点算不了什么，也许你仍然以为我们 的祖国地大物博。然而事实是：我国人口己超过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12.5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亿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，每年的净增长是 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1200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万人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；人均耕地面积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亩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，是世界人均值的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／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；目前耕地面积正 以每年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多万亩的速度递；全国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％的城市人口消耗的粮食依靠进口。 从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995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年间，全国共减少了耕地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810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万亩，每年因此而减少粮 食生产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50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亿斤。而且现在这个减少速度仍然在不断加快。现 实绝对不容乐观！！节约粮食，是我们每个公民应尽的义务，而不是说你的生活好了，你浪费得起就可以浪费。浪费 是一种可耻的行为。只要存有节约的意识，其实做起来很简单：吃饭时吃 多少盛多少，不扔剩饭菜；在餐馆用餐时点菜要适量，而不应该摆阔气， 乱点一气。吃不完的饭菜打包带回家。尽量减少对生态环境的压力已经成 为一种新时尚，成为新时代人应该具备的一种品质。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317840"/>
            <a:ext cx="3340080" cy="254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38480" cy="2760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029200" y="2286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看他们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281952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希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每次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365760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在到掉盘中剩餐时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60199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能够想想那些在死亡线上挣扎的人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珍惜资源 崇尚节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1639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a50021"/>
                </a:solidFill>
                <a:uFillTx/>
                <a:latin typeface="Arial"/>
              </a:rPr>
              <a:t>古人云：“地力之生物有大数，人力之成物有大限，取之有度，用之有节，则常足；取之无度，用之不节，则常不足。”珍惜资源不仅是中华民族的传统美德，更是人类生活的不二法门</a:t>
            </a:r>
            <a:r>
              <a:rPr b="0" lang="zh-CN" sz="1800" spc="-1" strike="noStrike">
                <a:solidFill>
                  <a:srgbClr val="a500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40080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3880" y="2817360"/>
            <a:ext cx="6400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田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歌中这样忧伤地唱道：“我的心里藏着忧郁无限，月牙泉是否依然；如今每个地方都在改变，她是否也换了容颜。”无尽的黄沙弥漫在大漠中，弥漫在月牙泉晶莹的泪水中，弥漫在人们无语的视线中。那顽劣的沙石借着风的暴力，不正是滥用着人类赋予它的“权力”，嚣张地撕裂着大地柔嫩的肌肤，淹没了眼泪、温情与希冀，吞噬了一切美丽的色彩与梦想，掩埋了曾经的富有和文明吗？面对那零落、惨淡、萧条的月牙泉在大漠里孤单哭泣，我们震惊了，我们愕然了，可是我们无权责怪！大自然可以满足人类的需要，但是满足不了人类的贪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40080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小处节约，把节约落实在每时每刻、分分秒秒的行动中。洗完手后，你是否记得随手关水龙头？没有用完的作业本，你是否用反面来打草稿？你是否做到餐餐不剩一粒米？看见乱砍乱伐等不良现象，你是否及时制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掬一泓山泉，洗尽那沉重的灰色；摘一片绿荫，覆盖那压抑的黄沙。埋一粒梦和希望的种子在每个人心底，在我们地球的每一个角落……世界将在节约之中让生命重现昔日的五彩缤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往未来的朋友们，珍惜资源吧！让工业的脉搏在绿的躯体里跳动，让江河的激流在绿的胸膛里高歌，让茫茫戈壁浸润着绿的乳汁，让万户千家满载着绿的欢乐……美的自然环境，美的人文环境，美的人类文明。我们不正是追求着他们的和谐与统一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我们共同珍惜资源，崇尚节约！愿我们充满创造性劳动的世界里，大地凝碧，原野滴翠，青山长在，绿水长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3244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2362320"/>
            <a:ext cx="8763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高二六全体同学感谢各位领导的光临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67080" y="4419720"/>
            <a:ext cx="1067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EN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么叫浪费？？？？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浪费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àngfèi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[waste;lavish;squander spand;]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充分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珍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必要地废弃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浪费金钱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浪费时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小事上浪费我们的精力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      浪费是不应该使用的资源。浪费是指资源的非预期使用、或使用和控制不当、或没有节制（控制）、或这些情况的组合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71500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在校园生活中的浪费情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洗澡水的浪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食堂中的饭菜浪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学会珍惜是美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743200"/>
            <a:ext cx="838080" cy="38088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41911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我国的水资源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我国属于缺水国之列，人均淡水资源仅为世界人均量的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，居世界第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109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位。中国已被列入全世界人均水资源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个贫水国家之一。而且分布不均，大量淡水资源集中在南方，北方淡水资源只有南方水资源的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。据统计，全国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600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多个城市中有一半以上城市不同程度缺水，沿海城市也不例外，甚至更为严重。目前我国城市供水以地表水或地下水为主，或者两种水源混合使用，有些城市因地下水过度开采，造成地下水位下降，有的城市形成了几百平方公里的大漏斗，使海水倒灌数十公里。由于工业废水的肆意排放，导致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％以上的地表水、地下水被污染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172200"/>
            <a:ext cx="762120" cy="304920"/>
          </a:xfrm>
          <a:custGeom>
            <a:avLst/>
            <a:gdLst>
              <a:gd name="textAreaLeft" fmla="*/ 11880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4259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专家们警告：“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年后中国将找不到可饮用的水资源”。美国民间有影响的智囊机构———世界观察研究所发表的一份报告中称：“由于中国城市地区和工业地区对水需求量迅速增大，中国将长期陷入缺水状况。”中国的黄河在过去的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多年年年断流，其中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997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年断流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226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天。流经中国一些人口稠密集地区的淮河去年也断流了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天。根据卫星拍摄的照片，数百个湖泊正在干涸，一些地方性的河流也在消失。目前全国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60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多座城市中，有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多座城市缺水，其中严重缺水的有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08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个。其中北京市的人均占有水量为全世界人均占有水量的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／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，连一些干旱的阿拉伯国家都不如。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828800" y="1676520"/>
            <a:ext cx="5486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北京的引水情况更不容乐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1028700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505320" y="2895480"/>
            <a:ext cx="2514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>
                    <a:alpha val="48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水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>
                  <a:alpha val="48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24000" y="87480"/>
            <a:ext cx="9792000" cy="6683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亿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*365=4745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亿粒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76280"/>
            <a:ext cx="8064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全国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亿人口，每天浪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粒米，一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天浪费多少粒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22100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万千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55609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67200" cy="2876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4762440" cy="3390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2562480" cy="31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352680" y="9907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看他们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553080" y="182880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没有水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33920" y="60958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能活几天？！！！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披着破大氅的，往往是个好酒徒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粮收万石，也要粗茶淡饭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会吃的吃千顿，不会吃的吃一顿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精打细算，油盐不断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一粥一饭汗珠换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不当家不知柴米贵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谁爱风流高格调，共怜时世俭梳妆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成物不可损坏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静以修身，俭以养德——诸葛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40:18Z</dcterms:modified>
  <cp:revision>1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